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352-1CED-47F8-937E-9CB0B0A6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A16-DCC8-45BA-8BD6-045A814A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D78-C9DD-4D58-B583-30A30476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E82-B89F-4A3B-9846-7137AD9B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3E53-4E15-4B38-91E4-4A3DB06A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235B-8044-49E6-867C-80043516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B90E-B626-482D-9F06-F55E53C8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336B-542C-49E5-91F9-0D3DC37A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DF58-CEDE-4B74-A1BC-9E17FE7C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2E0A-4ECE-428E-BCD7-829DA198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5FF1-E4A9-489C-AA73-B6A69717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BB2-47F3-4007-A9F0-4E114719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6F7D-BE5C-49C1-8B39-1C68D633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452F-7360-44C5-B316-E3DA2875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A25A-2A8F-4208-A35F-36255008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95C3-CA6B-4000-A758-96D0F14E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3132-1CFD-454C-B663-60B33AD4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4B7-36C5-4AA5-9D85-52D3D91B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576-3573-4899-80F2-6B899955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F50-0B86-4A20-9BC2-4227D772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BB5-23C3-4F2C-BB8D-428613BB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840-F8DD-4C6B-AC63-D2734524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085-CBAD-4379-9E65-40F1DC21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382-955B-4FF2-9D81-442EDC5C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9A81-BB8E-4A40-9C9F-03891597C1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SYMET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D855-6B31-4D72-9886-058663F546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27000" y="234936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KONSTRUKCJA SYMETRALNEJ ODCI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ALNA ODCIN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640" y="12672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ny je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dcinek AB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 Do konstrukcji symetralnej będzie potrzebn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yrkiel i linijk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2511600">
            <a:off x="5157360" y="2484360"/>
            <a:ext cx="2114640" cy="23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3446640" y="5273640"/>
          <a:ext cx="3036600" cy="31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46640" y="5273640"/>
                    <a:ext cx="30366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92360" y="2595600"/>
            <a:ext cx="2070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ALNA ODCIN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06640" y="12672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dmierzamy cyrklem dowolną długość większą od długości połowy odcinka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6280" y="2843280"/>
            <a:ext cx="2563920" cy="24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041640" y="5292720"/>
          <a:ext cx="3036960" cy="31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1640" y="5292720"/>
                    <a:ext cx="303696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ALNA ODCIN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06640" y="111492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bijamy nóżkę cyrkla w początek odcinka (punkt A) i kreślimy łuki nad i pod odcinkiem AB. To samo robimy wbijając nóżkę cyrkla w koniec odcinka (punkt 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46280" y="2843280"/>
            <a:ext cx="2563920" cy="24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3041640" y="5292720"/>
          <a:ext cx="3036960" cy="31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1640" y="5292720"/>
                    <a:ext cx="303696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 flipH="1">
            <a:off x="3987720" y="2798640"/>
            <a:ext cx="25639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ALNA ODCIN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6640" y="12672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ysujemy prostą przechodzącą przez punkty przecięcia łuków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trzymana prosta jest symetralną odcinka AB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997360" y="2754360"/>
          <a:ext cx="3036600" cy="32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7360" y="2754360"/>
                    <a:ext cx="303660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27720" y="2168640"/>
            <a:ext cx="0" cy="427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16280" y="225900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ymetral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25T01:49:05Z</dcterms:modified>
  <cp:revision>145</cp:revision>
  <dc:subject/>
  <dc:title>Slajd 1</dc:title>
</cp:coreProperties>
</file>